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gif" ContentType="image/gif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A31-FE5B-4D06-9B0B-99DFD9D5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447-4603-45B0-9492-D683A257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13A-2319-4BA9-A524-C5BA78E8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49D-7AFC-4546-8651-85FD1348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F56CA-77C8-41FA-9507-03B79FBA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25894-29FF-4D99-B6F9-CD2E115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DF40-F8CA-4C63-867F-79570DC7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99FB9-C657-4268-A0FD-9FBEBE9C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DA66B-CFB5-4FD0-A29A-0ADEFE3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613E1-B20E-444E-90B4-6AA7DC15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4AE1D-80B6-4237-97C2-F731912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3BD-DE2B-459A-A4E9-007484F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D76B5-ED20-452D-97DE-2F56D28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1FC84-11C7-4111-A197-BEEBD28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88C6-368B-4DF2-AC70-D7612BF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C5EAF-0558-4D63-A7A5-0B82F8A5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863F1-A200-4321-9965-DA23FD74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C6A-43EF-42B3-8B09-8C1085D1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C16-2F57-4B9A-8BBA-585DB89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194-9F73-4D1F-833E-FC5F95ED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713-9294-4F0E-97A6-3421B9AE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307-A250-4A40-A353-173A502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A9E-2931-498E-A790-95C0A656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176-0103-43F1-AA4A-9F1708B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6FF3-7BEE-4A5F-BF91-9A2B97F6147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DD8-B282-4A18-9320-688A7AD66E6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5E is learning about the Police and want to tell you about the Polic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687760" cy="247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160200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Equip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re are lots of police equipment like hand cuff, pepper spray, baton, hand cuff key, stab resistant body armour also known as S.R.B.A. and the last one, pocket kn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64360" y="3716280"/>
            <a:ext cx="1728720" cy="1125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4360" y="4941720"/>
            <a:ext cx="1800360" cy="135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924360" y="3716280"/>
            <a:ext cx="1535040" cy="1535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187280" y="4076640"/>
            <a:ext cx="702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Do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Police dogs are German Shepherd, they have a great sense of smell that can track people down.  If they get someone they have a toy for a award.  They are ready for action and ready to fi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922400" cy="2243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1490760" cy="170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19640" y="4292640"/>
            <a:ext cx="111420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1100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Uni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Police uniform are real important. When they go to a meeting they have to wear a nice uniform. When there on the go they have to put there uniform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2459160" cy="177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0920" y="4005360"/>
            <a:ext cx="1968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Job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. There are lots of jobs like, dog handler, dispatcher, traffic officers, crime scene unit, search and rescue, community constable, youth aid officers and youth aid educ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341360" cy="136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0" y="429264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484360" y="4221000"/>
            <a:ext cx="2017800" cy="1344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24480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ca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5. Police cars have lots of stuff in them. They are fast and have 2 loud siren that are blue and red. They have  got 2 camera to see if people are going 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127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41964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J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6. Jail is where criminals go. They get locked and have yuck food. There is no space and there rooms are tiny, the worse part is they have no privat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84720" y="37162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636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7. Weapons are guns there are tazers, tazer are an electric gun, they aim it at the criminal and it electric shots them for 5 seco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855960"/>
            <a:ext cx="3297240" cy="1851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30240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: Hagen Pries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2087280" cy="192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23200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0:31Z</dcterms:created>
  <dc:creator>5e16</dc:creator>
  <dc:description/>
  <dc:language>en-US</dc:language>
  <cp:lastModifiedBy>5e16</cp:lastModifiedBy>
  <dcterms:modified xsi:type="dcterms:W3CDTF">2011-09-19T02:49:23Z</dcterms:modified>
  <cp:revision>10</cp:revision>
  <dc:subject/>
  <dc:title> Police</dc:title>
</cp:coreProperties>
</file>